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D901-1970-4269-BEAF-72B562B90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4B45-7B49-411B-B9E2-C3FBC49672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2C4-09FD-4AB8-80AD-69BC4755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7A7-36BA-4F52-8806-E2985E23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866-C757-43E0-8BC7-44B48DB2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DB8-1A89-408A-BC3C-A2992237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4CE-3954-419F-805A-D142BC23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48D-E7E0-4371-8366-B6FB11E9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2C7-3A38-4C09-8CC7-0BF81A4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963-A4EF-4460-A6EB-466898F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363-7F93-4B2E-9CBF-99C01920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CD9-E92C-467D-B26F-CEFA900D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816-118C-4B68-872D-0464E00D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4BA-2919-45CA-BC72-B00AF601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A42B-4AAD-48EA-9F83-1E77F30DF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sikumba@cgiar.or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icipatory on Farm Evaluation of Improved Napier grass 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nisetum purpureum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ccessions in northern Tanzan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37339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gory N Sikum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n Lukuy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harles Gachuir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alter Mangesh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sto Ngul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teete Bekun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Livestock Research Institute, (ILRI)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airobi, Department of Animal Production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nzania Livestock Research Institute, (TALIRI), Tang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Institute of Tropical Agriculture, (IITA)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sponding author: 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gsikumba@cgiar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0644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anzania, feed and livestock feed technology adoption is a major constraint to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livestock feed availability is one of the major problems hindering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iting potential of IMPROVED FORAGES as animal FEED (Napier grass acc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facilitating the intensification of forages into existing crop-livestock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8360" y="1333440"/>
            <a:ext cx="88394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performance of six Napier grass accessions and establish farmers’ criteria for Napier grass accession se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7240" y="5330880"/>
            <a:ext cx="29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pier gr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240" y="2860560"/>
            <a:ext cx="3398760" cy="2470320"/>
          </a:xfrm>
          <a:prstGeom prst="rect">
            <a:avLst/>
          </a:prstGeom>
          <a:ln w="0">
            <a:noFill/>
          </a:ln>
        </p:spPr>
      </p:pic>
      <p:sp>
        <p:nvSpPr>
          <p:cNvPr id="209" name="Title 1"/>
          <p:cNvSpPr/>
          <p:nvPr/>
        </p:nvSpPr>
        <p:spPr>
          <a:xfrm>
            <a:off x="5105520" y="2438280"/>
            <a:ext cx="182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Calibri"/>
              </a:rPr>
              <a:t>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429000" y="2895480"/>
            <a:ext cx="54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ix Napier grass accessions (KK2, KK1, ILRI 16837, ILRI 16835, ILRI 16803 and ILRI 14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arvested at six and eight weeks from 3 field trials replicated 3 ti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 a randomized complete block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wo cuts per season of growth, nutrition and yield data was collected for two seas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 Farmers identified and ranked their preferred Napier grass characteristics and accessions using pairwise ran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76320" y="5645160"/>
            <a:ext cx="276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-wise ranking w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2"/>
          <p:cNvSpPr/>
          <p:nvPr/>
        </p:nvSpPr>
        <p:spPr>
          <a:xfrm>
            <a:off x="2841480" y="5791320"/>
            <a:ext cx="587520" cy="1396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3080" y="6014880"/>
            <a:ext cx="377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 initiate the trials, farme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oups were used to select the farmers and as a learning platform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6480" y="1590480"/>
            <a:ext cx="4011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verall Mean dry matter (DM) yields (t ha</a:t>
            </a:r>
            <a:r>
              <a:rPr b="1" lang="en-GB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) of six Napier grass acce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3160" y="2124000"/>
          <a:ext cx="3636720" cy="1927440"/>
        </p:xfrm>
        <a:graphic>
          <a:graphicData uri="http://schemas.openxmlformats.org/drawingml/2006/table">
            <a:tbl>
              <a:tblPr/>
              <a:tblGrid>
                <a:gridCol w="1434960"/>
                <a:gridCol w="712800"/>
                <a:gridCol w="649440"/>
                <a:gridCol w="839520"/>
              </a:tblGrid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 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65520" y="4467240"/>
          <a:ext cx="6226200" cy="2325600"/>
        </p:xfrm>
        <a:graphic>
          <a:graphicData uri="http://schemas.openxmlformats.org/drawingml/2006/table">
            <a:tbl>
              <a:tblPr/>
              <a:tblGrid>
                <a:gridCol w="1595520"/>
                <a:gridCol w="1771560"/>
                <a:gridCol w="1773000"/>
                <a:gridCol w="108612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t 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Tillers per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ves Per t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50(17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3(18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83(1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83(16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3(31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7(4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33(75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7(15.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1.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7(17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3(3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00(6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0(5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33(20.8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3(18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05000" y="1603080"/>
            <a:ext cx="492588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both years, ILRI 16835 performed better than the rest of the accessions and was significantly different (P&gt;0.05) from ILRI 1498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average, the tallest accessions were in the order ILRI 16835&gt;ILRI 16837&gt;ILRI 14984&gt;KK1&gt;ILRI16803&gt;KK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0200" y="4051080"/>
            <a:ext cx="36496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ab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Treatment means followed by the same letter superscript in the same row do not differ significantly (P &lt;0.05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2160" y="5334120"/>
            <a:ext cx="2270160" cy="10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apier grass accessions growth characteris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Arrow 4"/>
          <p:cNvSpPr/>
          <p:nvPr/>
        </p:nvSpPr>
        <p:spPr>
          <a:xfrm>
            <a:off x="2438280" y="5738760"/>
            <a:ext cx="250920" cy="2286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42640" y="1793520"/>
            <a:ext cx="83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utritional Quality of the six established Napier grass accessions under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2320" y="9774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1320"/>
          <a:ext cx="7010280" cy="4172040"/>
        </p:xfrm>
        <a:graphic>
          <a:graphicData uri="http://schemas.openxmlformats.org/drawingml/2006/table">
            <a:tbl>
              <a:tblPr/>
              <a:tblGrid>
                <a:gridCol w="868320"/>
                <a:gridCol w="617760"/>
                <a:gridCol w="849240"/>
                <a:gridCol w="941400"/>
                <a:gridCol w="990360"/>
                <a:gridCol w="914400"/>
                <a:gridCol w="914400"/>
                <a:gridCol w="9144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6 (3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3 (3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6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8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4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6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0 (4.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13 (3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4 (3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74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62 (3.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6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34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8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    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3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   (0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   (0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  (0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 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3   (1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   (3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6   (1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6   (2.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1 (2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5  (2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5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49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1 (4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65  (3.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8  (4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5 (8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2 (6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5 (4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1 (3.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6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56 (4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12 (3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2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9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79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1   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   (2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6   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   (0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3   (0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3  (0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1 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O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9 (7.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7 (5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9 (6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3 (7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8  (6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2 (11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4 (7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5" name="Text Placeholder 6"/>
          <p:cNvSpPr/>
          <p:nvPr/>
        </p:nvSpPr>
        <p:spPr>
          <a:xfrm>
            <a:off x="7238880" y="2481120"/>
            <a:ext cx="175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03 showed high average levels of Crude protein (CP) (10.61%) and Nitrogen (N) (1.7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35 had the lowest levels of CP (7.66%) and N (1.22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60560" y="826560"/>
            <a:ext cx="37339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727520" y="1882800"/>
            <a:ext cx="43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 ranked ILRI 16835 as the best performing acc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ranked KK2 as the best performing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RI 16803 remained the worst ranked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89080" y="516096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important criteria for adoption of Napier grass acc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2400" y="1874880"/>
          <a:ext cx="4525920" cy="2438280"/>
        </p:xfrm>
        <a:graphic>
          <a:graphicData uri="http://schemas.openxmlformats.org/drawingml/2006/table">
            <a:tbl>
              <a:tblPr/>
              <a:tblGrid>
                <a:gridCol w="1466640"/>
                <a:gridCol w="1443240"/>
                <a:gridCol w="1616040"/>
              </a:tblGrid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rm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42840" y="42642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e: 1: The Best, 6: The Wo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54000" y="155412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king of the six selected accessions by farmers and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Chart 10"/>
          <p:cNvGraphicFramePr/>
          <p:nvPr/>
        </p:nvGraphicFramePr>
        <p:xfrm>
          <a:off x="4780080" y="4343400"/>
          <a:ext cx="422568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Char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0080" y="4343400"/>
                    <a:ext cx="42256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546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earch findings show that KK2, ILRI 16835, KK1 and ILRI 16837 consistently produced higher yie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ccessions were also ranked as the ‘best bet’ accessions for adoption from farmers overall preference sc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rmers appreciated the importance of participatory variety selection of the different accessions rather than empirical selection on yield and nutritional quality on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as seen were KK2 was preferred even if it was not the most productive variety empirically in terms of yield and Nutritional quali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nutshell, farmers forage selection criteria should be taken into consideration in forage breeding programs to enhance adoption when scal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2666880" y="3733920"/>
            <a:ext cx="41911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56734"/>
                </a:solidFill>
                <a:latin typeface="Arial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6:51:30Z</dcterms:created>
  <dc:creator>user</dc:creator>
  <dc:description/>
  <dc:language>en-US</dc:language>
  <cp:lastModifiedBy>Sikumba, Gregory (ILRI)</cp:lastModifiedBy>
  <cp:lastPrinted>2011-10-06T11:45:23Z</cp:lastPrinted>
  <dcterms:modified xsi:type="dcterms:W3CDTF">2016-06-30T10:19:46Z</dcterms:modified>
  <cp:revision>176</cp:revision>
  <dc:subject/>
  <dc:title>Slide 1</dc:title>
</cp:coreProperties>
</file>